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38599"/>
        <c:axId val="42839621"/>
      </c:barChart>
      <c:catAx>
        <c:axId val="41338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39621"/>
        <c:crosses val="autoZero"/>
        <c:auto val="1"/>
        <c:lblAlgn val="ctr"/>
        <c:lblOffset val="100"/>
        <c:noMultiLvlLbl val="0"/>
      </c:catAx>
      <c:valAx>
        <c:axId val="42839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38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8B2-92E0-44F8-877B-819B0C2B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F97-381D-421F-A595-B67AD28B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086-A272-4116-995C-D2292906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260-5F68-4B45-A310-B9AEBBE1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45A-B6CC-4134-B061-96DFB7BC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517-725F-4239-994C-F0934AA8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F1A-C38E-46D4-9B76-F6E7A1C9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39C-8010-4FCF-890A-D68FE4CE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523-B85B-4E85-8FAA-3C69CE2B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2BD-A897-4BA9-89A1-4235803C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669-CCC4-4ECF-B83B-AEF3F47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3AC-55E0-4127-9901-5CA90559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27CCF-0043-42B0-9A03-58DAEB45FA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