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72334"/>
        <c:axId val="83666304"/>
      </c:barChart>
      <c:catAx>
        <c:axId val="89723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66304"/>
        <c:crosses val="autoZero"/>
        <c:auto val="1"/>
        <c:lblAlgn val="ctr"/>
        <c:lblOffset val="100"/>
        <c:noMultiLvlLbl val="0"/>
      </c:catAx>
      <c:valAx>
        <c:axId val="836663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23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8A3C-4395-4908-AB91-62322EF52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9ABB-555E-47B6-8F82-92FB2727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C827-579E-4CB3-B0D1-D640B74EB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E562-A993-4429-841D-6B9C65BEF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C81E-C990-4071-8FA1-AE043714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1828-BF97-4FBD-B9F2-5A50E282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5F05-6A33-4CD6-BC39-D7E79F39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F6AE-7F1B-46E0-9E44-F3B39423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33FF-73A0-4157-A428-E02EE2656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DB56-C1EA-4BD0-A4CD-777E0691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0A1C-3546-416A-9567-81442583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5C15-64FE-411B-A338-97DAB994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06452-5465-4167-9508-E3F299940D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