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03111"/>
        <c:axId val="42022104"/>
      </c:barChart>
      <c:catAx>
        <c:axId val="88903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22104"/>
        <c:crosses val="autoZero"/>
        <c:auto val="1"/>
        <c:lblAlgn val="ctr"/>
        <c:lblOffset val="100"/>
        <c:noMultiLvlLbl val="0"/>
      </c:catAx>
      <c:valAx>
        <c:axId val="42022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03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AB6-0C7F-4FBD-80D5-30245BC2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ED4-EDDB-419E-A396-8F8B751D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80B-B445-4432-9138-21198E9C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33A-AB82-4FE2-B6A5-66397C8A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2CD-EE76-4855-89E3-3CBE4BE3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BC8-FE5C-4BCD-BDCA-A1852AFE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4C2-E120-4A84-BA7D-575D31C2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F30-D0A1-4812-BB0F-B96A2498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6D34-4EE4-4CD6-A56A-5472A522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619-1E68-4C4C-8B74-C2EE9FA0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7D6-413A-41A4-8162-3363698F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0E8-A806-43AE-ACCA-DD35A8AC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B155C-7E16-40DA-97DF-11F0276917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