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667999"/>
        <c:axId val="26004378"/>
      </c:barChart>
      <c:catAx>
        <c:axId val="316679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004378"/>
        <c:crosses val="autoZero"/>
        <c:auto val="1"/>
        <c:lblAlgn val="ctr"/>
        <c:lblOffset val="100"/>
        <c:noMultiLvlLbl val="0"/>
      </c:catAx>
      <c:valAx>
        <c:axId val="260043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6679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D4EF-781A-4823-8CAF-FCC6F0D72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26C4-5072-4367-8502-877FBC4E4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2044-4E30-436D-9C9B-D2C7F8B9E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FE36-349C-4CEC-B3B4-AD642589A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671B-0867-4A52-9340-0B6D3B2A3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39E2-C7B0-452A-B466-1F30D941F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B7A2-30A1-414B-9235-BC796C514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B4C6-5B63-4FEC-984B-8CFABAE21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175C-C81A-4857-821D-C6EC3F3A8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70A5-414C-44F5-9F02-89BDB5C38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DBE6-2B60-4C5C-AF0B-44B1D423A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0998-2D07-4F5C-B382-8456F4219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6FAC05-95AF-41D6-8F37-C8E16AB16AA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