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034227"/>
        <c:axId val="53938489"/>
      </c:barChart>
      <c:catAx>
        <c:axId val="600342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38489"/>
        <c:crosses val="autoZero"/>
        <c:auto val="1"/>
        <c:lblAlgn val="ctr"/>
        <c:lblOffset val="100"/>
        <c:noMultiLvlLbl val="0"/>
      </c:catAx>
      <c:valAx>
        <c:axId val="539384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342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4595-75D8-427B-8139-AACA914C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CD66-53EF-4C3E-AEC4-F99B15BF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5155-821F-4FB0-A329-FB80F64E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74B6-A042-415E-A186-17E284F8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9310-8170-4840-AC6B-1A49954E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A593-66BD-4D17-B4D9-A51CAF62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5759-E100-405D-AD40-0FEAAA13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20ED-1179-4B50-B459-A3B82C52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58A-6BA4-462D-93B7-15E2B3E7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FCAF-2F96-4264-87DC-B298AF7E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BC31-A3E4-4D47-AC47-8263BE35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2428-AAC9-4F85-8A14-792E089A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1AAB5-70C5-4162-8164-7151C3F103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