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636162"/>
        <c:axId val="91022497"/>
      </c:barChart>
      <c:catAx>
        <c:axId val="666361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022497"/>
        <c:crosses val="autoZero"/>
        <c:auto val="1"/>
        <c:lblAlgn val="ctr"/>
        <c:lblOffset val="100"/>
        <c:noMultiLvlLbl val="0"/>
      </c:catAx>
      <c:valAx>
        <c:axId val="910224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6361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2943-7E2D-44BC-B5B1-023452E99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6FD8-1D89-41C6-A483-2A0019DE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8E19-F5CC-4CB9-8572-3DC4B1077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19CA-2D7B-42B8-92C7-B64CD52D6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B9C3-BCBC-4C45-84C9-93980955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40A7-FAAC-4261-B428-F400B06C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BAD6-7BB5-4B9E-8FE2-A455B42F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07D1-D3A5-4A3B-B5AE-E8D6CFF6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AE17-4216-4D39-88E3-C50B7700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999A-76C9-4CC1-9D45-8C32F0E6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8A0E-FEBC-46E4-9CF8-74E7D646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1E8C-9ABE-4E31-AADE-E4948FF2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490721-ECE2-439F-AC70-767C3ADEB3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