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17178"/>
        <c:axId val="27782818"/>
      </c:barChart>
      <c:catAx>
        <c:axId val="66317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2818"/>
        <c:crosses val="autoZero"/>
        <c:auto val="1"/>
        <c:lblAlgn val="ctr"/>
        <c:lblOffset val="100"/>
        <c:noMultiLvlLbl val="0"/>
      </c:catAx>
      <c:valAx>
        <c:axId val="27782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7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507-3A45-4A26-9D3A-A1E672CF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ABF-31DB-4D00-8F46-7C76AFB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EBE-B267-43F5-9BAE-3EBE92BC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C8B-4527-4AA6-81FF-02C52FF8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6BA-4E5C-41E4-8996-CBD8DB8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B28-EBCE-4A63-8FA8-CA4B1539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9D9-7C73-4D4B-8C2C-6BB85643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404-7D96-4AFF-89D1-C98EF4B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78A-53CE-4B9D-B0E4-37BA670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236-9839-4552-B0B7-854E258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D87-D87B-4B48-B5D6-4333E5F0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F62-E806-4EC8-949B-9E756C47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3E2AB-AD7C-4644-ACE8-3D5122E6F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