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65306"/>
        <c:axId val="80871488"/>
      </c:barChart>
      <c:catAx>
        <c:axId val="63465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71488"/>
        <c:crosses val="autoZero"/>
        <c:auto val="1"/>
        <c:lblAlgn val="ctr"/>
        <c:lblOffset val="100"/>
        <c:noMultiLvlLbl val="0"/>
      </c:catAx>
      <c:valAx>
        <c:axId val="80871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65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699-F580-43B7-95C8-BFCE6CFE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7C8-E381-40A1-8F53-55F4C39D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802-17B0-490E-B035-15866948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D89-B159-4CCC-A4BD-04AE1F0B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D5C-79DC-43B2-93FF-5DE48700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998-4384-40A6-A56F-00ED3A3E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0F4-EEE7-4D19-A5CE-D5FEBAB7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2B6-F909-4857-8403-5FF35CB2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0E9-0422-4B87-9A31-6A7524D3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CF5-8F34-4572-9F00-791E4085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B6C-D7B0-4757-9C47-268C3139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EC1-93B8-466E-A784-D54BFFC5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C3BDE-BAEF-4B61-8D79-FC1FBD74BC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