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211585"/>
        <c:axId val="16979220"/>
      </c:barChart>
      <c:catAx>
        <c:axId val="912115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979220"/>
        <c:crosses val="autoZero"/>
        <c:auto val="1"/>
        <c:lblAlgn val="ctr"/>
        <c:lblOffset val="100"/>
        <c:noMultiLvlLbl val="0"/>
      </c:catAx>
      <c:valAx>
        <c:axId val="169792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2115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FB87-265E-43A0-97BB-58A4B1E46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5EA3-CBDB-4D86-8040-BD1D55EE0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4E85-6111-4059-BB9B-1DEB5E256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E50B-68D1-4F2B-AB47-A1CB5FFC6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85F5-C834-44FB-9E85-DE55B1E17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B69D-82F8-4CB8-934D-0A3DBC4EB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6CCF-2366-4BBF-ABC2-96501F033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C208-BDAE-46F5-8CF6-5EB8F672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1D55-48C2-4BC2-8B47-687E00E1A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93D1-FD62-477E-AE50-891D9F62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4FE0-0DBC-4B04-8448-70F174F0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1978-CB11-4BB9-8C87-52084249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38642F-28B8-4B3D-A363-89FF02A8209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