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012454"/>
        <c:axId val="66518676"/>
      </c:barChart>
      <c:catAx>
        <c:axId val="210124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18676"/>
        <c:crosses val="autoZero"/>
        <c:auto val="1"/>
        <c:lblAlgn val="ctr"/>
        <c:lblOffset val="100"/>
        <c:noMultiLvlLbl val="0"/>
      </c:catAx>
      <c:valAx>
        <c:axId val="66518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124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36D3-D3BF-4631-A787-7AF6AE3F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272F-22FC-4464-BE2D-AC824113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A708-97B2-4B05-86AE-798BEBDE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7C5E-89AF-4247-BFFC-BA148250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C4B3-2F35-47C6-85E0-E0868E79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7C4-99BD-4537-8314-7DC2E8C0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4354-307C-4BCC-868D-4AFC83EF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C188-8FE3-4301-8DE0-163749E2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234A-B3AD-4558-A623-9BF633DD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B12F-CE8F-4E57-AB8A-1E5C66B7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547D-9DC4-4360-94B9-5FA4CD57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0781-649B-47AA-ABAE-9FF53B63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9DD1E-D51B-4B1C-B41D-DE9A3CAB54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