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41516"/>
        <c:axId val="15831897"/>
      </c:barChart>
      <c:catAx>
        <c:axId val="90141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31897"/>
        <c:crosses val="autoZero"/>
        <c:auto val="1"/>
        <c:lblAlgn val="ctr"/>
        <c:lblOffset val="100"/>
        <c:noMultiLvlLbl val="0"/>
      </c:catAx>
      <c:valAx>
        <c:axId val="15831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41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FCD-E1C1-44DA-A789-78FDD035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46A-1A9B-4278-B918-56FEDB7F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800-B8FF-49E6-8139-2A98D575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DB5-A0F5-403B-83C8-DB429391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460-6CE8-4E30-BAD9-755A0058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AD8-F946-43F0-90C5-20A76C46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CCA-5799-40E1-8FF4-2A5633B5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837-443A-4A6B-A6B8-7C5C39C1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703-0C90-4F17-B36A-5D51F643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054-A39D-4DA2-A82F-39AF3657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9DF-08B9-48DC-ADCA-D204FB93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E02-FC54-48B7-8670-1DE9F73D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2ECD0-12D7-43D9-8F25-0FCF02159D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