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99219"/>
        <c:axId val="57327345"/>
      </c:barChart>
      <c:catAx>
        <c:axId val="92999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27345"/>
        <c:crosses val="autoZero"/>
        <c:auto val="1"/>
        <c:lblAlgn val="ctr"/>
        <c:lblOffset val="100"/>
        <c:noMultiLvlLbl val="0"/>
      </c:catAx>
      <c:valAx>
        <c:axId val="5732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99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58F-3544-4DC0-9DEA-470499E4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7EA-AE3C-4C31-8870-24E9393E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110-6AA9-49F0-9509-90918705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86E-530B-4AB1-8AEA-90A1B9B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82E-5A2B-4BFF-8E69-0765FE6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57A-E8BC-4CC3-A638-97C7297E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FE5-E8ED-4E43-A1BD-08E26080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D5F-2A81-4915-9AA7-158BCAC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FF2-0B7D-47FE-A150-FDB7B05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FAA-2B3E-4805-A109-5799ACB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91D-21D7-4F42-B1CB-5D6658F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2D8-202A-48A9-93E8-AD0F5C3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8075-E7AE-406A-B87B-8824B97C7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