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42239"/>
        <c:axId val="13494501"/>
      </c:barChart>
      <c:catAx>
        <c:axId val="11442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94501"/>
        <c:crosses val="autoZero"/>
        <c:auto val="1"/>
        <c:lblAlgn val="ctr"/>
        <c:lblOffset val="100"/>
        <c:noMultiLvlLbl val="0"/>
      </c:catAx>
      <c:valAx>
        <c:axId val="13494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42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BBF-BD3E-40FA-BC49-D5405C03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E70-D24B-44C4-A359-FBAB222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798-A9CD-40EF-B4BC-5342316D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BF3-C619-4983-BD66-2FDC98E2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BFC-E807-4A3D-A014-225D1F20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F8C-E64C-41C7-B73A-30DEAB60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A46-F046-41A4-B5A0-9CBEA053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0AA-6753-4525-A070-186E1ACE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15F-2F1D-428F-8BE7-28995FA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2F2-39A0-4F69-A53D-A2AE553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120-597F-4EC1-8E98-561303D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F4F-8D7E-41A6-BE40-B09CE21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C3EFC-2363-431E-88FA-001E12A5E7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