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66617"/>
        <c:axId val="15943668"/>
      </c:barChart>
      <c:catAx>
        <c:axId val="32366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43668"/>
        <c:crosses val="autoZero"/>
        <c:auto val="1"/>
        <c:lblAlgn val="ctr"/>
        <c:lblOffset val="100"/>
        <c:noMultiLvlLbl val="0"/>
      </c:catAx>
      <c:valAx>
        <c:axId val="15943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66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105-792C-4B38-8423-6520D3F9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DAD-D8D6-4CBD-AE21-394663AF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885-DF72-4D1B-8D6C-06D4FBDD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94E-A686-4B92-8B82-A285E5B6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5C3-7200-47A5-9A6A-2292EEB5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C04-7BC4-40D9-9968-C62C0803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0F9-0D2A-44F9-97ED-3CBC7C56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360-78E0-4920-8CFB-4CD3EC8D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8B9-4667-41D3-A077-147630C5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306-0552-4658-8A02-7C62BED9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40B-E348-4276-8151-FAB9BAA9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42C-4541-4F84-B474-5E8758C8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CCB39-3ECC-4519-83B7-4334DDB53F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