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69667"/>
        <c:axId val="73712715"/>
      </c:barChart>
      <c:catAx>
        <c:axId val="6636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2715"/>
        <c:crosses val="autoZero"/>
        <c:auto val="1"/>
        <c:lblAlgn val="ctr"/>
        <c:lblOffset val="100"/>
        <c:noMultiLvlLbl val="0"/>
      </c:catAx>
      <c:valAx>
        <c:axId val="7371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0B7-A43B-4EED-A83F-059B6800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A3E-E67C-485F-BFF6-FB101B57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82E-6219-4BD7-A9D8-C1A947D6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E8A-F3B2-447E-92C6-44E40C49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370-C9A6-4D17-8D0F-934D7B7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045-281A-42B1-876E-8A411FB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341-ECC5-4FC0-AFD3-9530E86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938-4F49-4D2A-9FEF-47135467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F7E-FB94-4FFF-AB95-E3B2617A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FDB-7435-4F32-B12D-95B070D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B45-2EA0-413D-9220-F528ADD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2DB-D368-492B-821C-D287B81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77CBA-1868-461A-9835-EBAE677ED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