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36417"/>
        <c:axId val="73447197"/>
      </c:barChart>
      <c:catAx>
        <c:axId val="39536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47197"/>
        <c:crosses val="autoZero"/>
        <c:auto val="1"/>
        <c:lblAlgn val="ctr"/>
        <c:lblOffset val="100"/>
        <c:noMultiLvlLbl val="0"/>
      </c:catAx>
      <c:valAx>
        <c:axId val="73447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36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D8C-C032-45A5-9C8A-369ABE84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081-C70B-4212-BF29-33984D1B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3CF-66FB-4A8E-A9F5-B5E1B5CC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F96-ECCF-446A-9BE1-10C8B963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F9A-9FF4-4B8D-B16A-9020F6E9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E7C-C801-451D-BFA4-0C653DFF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3A9-28FC-4FF6-AB44-30BC108F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666-2474-4263-86EC-F3578C73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CF7-9BED-4944-9283-209F332D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7F2-E257-4BDE-AFE3-4671E91D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21D-5815-4E96-9E8C-30F7D83D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21E-2A38-4801-BDF7-9685A7B8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5AD69-E3E3-4A11-A767-288C3F6BDA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