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29240"/>
        <c:axId val="33229482"/>
      </c:barChart>
      <c:catAx>
        <c:axId val="66429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29482"/>
        <c:crosses val="autoZero"/>
        <c:auto val="1"/>
        <c:lblAlgn val="ctr"/>
        <c:lblOffset val="100"/>
        <c:noMultiLvlLbl val="0"/>
      </c:catAx>
      <c:valAx>
        <c:axId val="33229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29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6DB-FDF0-4F75-B0A7-D77A298D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760-4E8B-45C6-AA88-8A16B977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552-574C-4A10-91B7-284C8AE0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13B-EEEC-48C9-9054-3E8B7585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60FF-85DD-4372-A00B-69AE9D52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D37-EA21-4A7A-9920-4ED29A4A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9AD-8595-4615-B2A9-8630120B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524-C2BE-463D-B137-65F82533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6FA-B455-4F39-B617-06D1592D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BAB-FD18-469F-AA03-E471CEC9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1F9-6ACE-459D-9AEA-4E942C30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56A-C28B-4AEE-885B-BEC83C02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E681A-872A-48F0-AAC6-08BC3AEA95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