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00261"/>
        <c:axId val="96166056"/>
      </c:barChart>
      <c:catAx>
        <c:axId val="60700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66056"/>
        <c:crosses val="autoZero"/>
        <c:auto val="1"/>
        <c:lblAlgn val="ctr"/>
        <c:lblOffset val="100"/>
        <c:noMultiLvlLbl val="0"/>
      </c:catAx>
      <c:valAx>
        <c:axId val="96166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00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777-4FD0-412E-89FF-230E57F0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9F6-DE4C-4E93-A634-A3C80835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A90-0679-4776-ACCF-2F55FD69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A7D-007A-48F7-BCCB-A2962B0C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093-6EBB-4D80-9095-94321137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527-1A47-4A2F-A860-EC6DB0E4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31E-6B13-4354-B02D-8ACDE4E1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AFC-3AE0-43AF-8CD7-5B1466D8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4C1-4D2A-41C9-B232-02E5E642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C99-663A-4762-A925-2DCF9B4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C44-3BC2-4F9E-94E9-F83ED31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AF6-E9B8-4F86-8389-1359D15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4C808-74D4-4D60-A9E6-303873855C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