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96167"/>
        <c:axId val="96280519"/>
      </c:barChart>
      <c:catAx>
        <c:axId val="78496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80519"/>
        <c:crosses val="autoZero"/>
        <c:auto val="1"/>
        <c:lblAlgn val="ctr"/>
        <c:lblOffset val="100"/>
        <c:noMultiLvlLbl val="0"/>
      </c:catAx>
      <c:valAx>
        <c:axId val="96280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6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FBF5-E563-468E-9E96-473C6059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6A2-4BE1-4169-97B9-4645D807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990-7D0A-409B-81ED-37F5CE45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900-E3BD-4B33-A345-5802C001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F29-E89A-49E8-8EC1-0D6F06C7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72F-AF98-487D-B710-15BC0CAB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2F1-E346-4F3C-8BE0-D6F2D497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119-87DF-43DA-8A28-52912B9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190-C5F2-457B-B029-E64397D2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F1F-AA8F-497A-9628-0AC4DE46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16C-B650-4B61-A8B8-99C849E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1E5-5F65-42E7-91D4-2CC9FA51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545FE-691C-45E9-889E-8D6B7C5983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