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028460"/>
        <c:axId val="7850915"/>
      </c:barChart>
      <c:catAx>
        <c:axId val="440284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0915"/>
        <c:crosses val="autoZero"/>
        <c:auto val="1"/>
        <c:lblAlgn val="ctr"/>
        <c:lblOffset val="100"/>
        <c:noMultiLvlLbl val="0"/>
      </c:catAx>
      <c:valAx>
        <c:axId val="7850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284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60D-47CE-4F6F-ABBF-68989C38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E2F-418E-4BAF-A164-48844992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74A-001F-4190-B86E-0882083D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3EC1-D96A-4DCC-8CE5-949CB50D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6F9C-AB0B-4C62-8DA3-63EE7B45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45B-7E56-40F4-B359-FF70C38B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006-D397-419B-9622-1BA123CA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53A-A363-411E-AB4B-32905967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A3B-9275-4930-8417-3DAE50B2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AD1-F02B-4177-98FB-12A01E2F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A38-9EA6-4DD9-BB9C-9DAD55B8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B44F-0361-4528-8B49-0EC7FFAE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6CD80-6BFB-4DCC-A0A7-DA89A2B968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