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19959"/>
        <c:axId val="17298462"/>
      </c:barChart>
      <c:catAx>
        <c:axId val="99519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98462"/>
        <c:crosses val="autoZero"/>
        <c:auto val="1"/>
        <c:lblAlgn val="ctr"/>
        <c:lblOffset val="100"/>
        <c:noMultiLvlLbl val="0"/>
      </c:catAx>
      <c:valAx>
        <c:axId val="17298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19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99A-D246-4B37-BBD0-FEF773EE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00A-B802-4F6B-BD6C-84993603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B1D-814D-450F-9C84-D2F4A276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99A-225A-4AE8-8782-4E3488C0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202-EAEC-46E0-92C6-A5833A8D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7FE-99ED-4572-993B-641472E4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027-B918-462E-BB13-72DDC031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426-CFFD-497A-98ED-21854CA4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E40-A05E-4ED0-AA91-32DAE376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026-990C-4716-84D4-67312518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269-B7D9-43C1-AE90-49D35D76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60E-F9FF-4242-8D42-3A1BA599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D24DE-89A3-4ABB-8239-DC70127FBE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