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56492"/>
        <c:axId val="61696026"/>
      </c:barChart>
      <c:catAx>
        <c:axId val="23756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96026"/>
        <c:crosses val="autoZero"/>
        <c:auto val="1"/>
        <c:lblAlgn val="ctr"/>
        <c:lblOffset val="100"/>
        <c:noMultiLvlLbl val="0"/>
      </c:catAx>
      <c:valAx>
        <c:axId val="61696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56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190-75ED-4036-9152-24D88C20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F7A-CBC0-4A1A-B4D9-7672EC8C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B65-567C-433B-96FE-0881D139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B3C-295E-4491-9D3E-9EE08A2B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F34-F7D2-4C00-8708-9416FE59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394-E628-4FD2-BC9C-C28FD468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079-0378-4A7B-B6D4-228111E9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45E-226C-45EA-B900-518DA2B4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EC8-5D79-4BF2-9201-3EC8D76F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BC9-AA5B-4A51-A727-92C29109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509-E717-4800-AC15-745AE811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243-EE28-4A97-9D10-3BC366B3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B50DE-CB7E-4968-BA17-E1BAAD8BC9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